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13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5965-C7E2-4F44-8206-9D94C427C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D23F-333A-4987-BF64-6086E0F2A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C384B-2E41-4A18-A7B9-8A8B60351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F8AE-4393-4C57-9BE1-D25B7998C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5B8D-406C-43BE-93C7-286E1A0FA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0D5AF-DF53-498C-891B-EE2D4E5A7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E5064-9C77-4808-963F-8D88C14F2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ED7E-FC16-420E-8C3F-AC13698CF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F0E2-6407-489B-8316-E164BF3EC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78A31-4350-43F6-88EB-33E35F319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F8AA-51D1-402A-97EB-594FAB59E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3906-546D-4471-844C-98E348E63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b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05120" y="76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5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Research Skills Development Un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15640" y="645120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f5f5f"/>
                </a:solidFill>
                <a:latin typeface="Arial Narrow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C6FA-D476-49F3-A211-C20770A165BB}" type="slidenum">
              <a:rPr b="0" lang="ar-SA" sz="1400" spc="-1" strike="noStrike">
                <a:solidFill>
                  <a:srgbClr val="5f5f5f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72480" y="76320"/>
            <a:ext cx="111924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52280" y="112680"/>
            <a:ext cx="533520" cy="4208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447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5f5f5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ctionary.com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2349360"/>
            <a:ext cx="6813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6000" spc="-1" strike="noStrike">
                <a:solidFill>
                  <a:srgbClr val="5f5f5f"/>
                </a:solidFill>
                <a:latin typeface="Century Schoolbook"/>
                <a:cs typeface="Times New Roman"/>
              </a:rPr>
              <a:t>تطوير الباحثين الصغا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28727" t="30233" r="41747" b="14961"/>
          <a:stretch/>
        </p:blipFill>
        <p:spPr>
          <a:xfrm>
            <a:off x="1116000" y="620640"/>
            <a:ext cx="6192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8362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ن أين تأتي افكار الأبحاث؟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98600" y="1628640"/>
            <a:ext cx="1841760" cy="1327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0" y="17398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Tahoma"/>
                <a:cs typeface="Tahoma"/>
              </a:rPr>
              <a:t>هل يجب أن نعطي الطلبة الموضوع الذي سيبحثون فيه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32216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Tahoma"/>
                <a:cs typeface="Tahoma"/>
              </a:rPr>
              <a:t>هل يجب ان نترك الطلبة يختارون مواضيع  الأبحاث بأنفسهم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136980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ن أين تأتي أفكار الأبحاث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47640" y="1916280"/>
            <a:ext cx="5472360" cy="4679280"/>
            <a:chOff x="1547640" y="1916280"/>
            <a:chExt cx="5472360" cy="4679280"/>
          </a:xfrm>
        </p:grpSpPr>
        <p:sp>
          <p:nvSpPr>
            <p:cNvPr id="125" name=""/>
            <p:cNvSpPr/>
            <p:nvPr/>
          </p:nvSpPr>
          <p:spPr>
            <a:xfrm>
              <a:off x="1835280" y="1916280"/>
              <a:ext cx="2952720" cy="28810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7640" y="2888640"/>
              <a:ext cx="25196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b">
              <a:spAutoFit/>
            </a:bodyPr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ar-Q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ن المنهج الدراس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1280" y="1916280"/>
              <a:ext cx="2952720" cy="288108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87640" y="3714840"/>
              <a:ext cx="2952720" cy="288072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00720" y="2998080"/>
              <a:ext cx="25192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b">
              <a:spAutoFit/>
            </a:bodyPr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ar-Q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ثقافة المحل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3640" y="5457240"/>
              <a:ext cx="25192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b">
              <a:spAutoFit/>
            </a:bodyPr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ar-Q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طلب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00360" y="917640"/>
            <a:ext cx="1068480" cy="1566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854600" y="1700280"/>
            <a:ext cx="1878120" cy="485640"/>
          </a:xfrm>
          <a:prstGeom prst="wedgeRoundRectCallout">
            <a:avLst>
              <a:gd name="adj1" fmla="val -49490"/>
              <a:gd name="adj2" fmla="val 8431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200" spc="-1" strike="noStrike">
                <a:solidFill>
                  <a:srgbClr val="000000"/>
                </a:solidFill>
                <a:latin typeface="Comic Sans MS"/>
                <a:cs typeface="Arial"/>
              </a:rPr>
              <a:t>سؤال البح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16320" y="520560"/>
            <a:ext cx="15192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400" spc="-1" strike="noStrike">
                <a:solidFill>
                  <a:srgbClr val="000000"/>
                </a:solidFill>
                <a:latin typeface="Comic Sans MS"/>
                <a:cs typeface="Arial"/>
              </a:rPr>
              <a:t>الفكرة الرئيس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2781360"/>
            <a:ext cx="1330200" cy="4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3645000"/>
            <a:ext cx="118404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200" spc="-1" strike="noStrike">
                <a:solidFill>
                  <a:srgbClr val="000000"/>
                </a:solidFill>
                <a:latin typeface="Comic Sans MS"/>
                <a:cs typeface="Arial"/>
              </a:rPr>
              <a:t>انواع التلوث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1280" y="3645000"/>
            <a:ext cx="121752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باب التلوث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64000" y="3645000"/>
            <a:ext cx="164016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200" spc="-1" strike="noStrike">
                <a:solidFill>
                  <a:srgbClr val="000000"/>
                </a:solidFill>
                <a:latin typeface="Comic Sans MS"/>
                <a:cs typeface="Arial"/>
              </a:rPr>
              <a:t>حلول التلوث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90800" y="4869000"/>
            <a:ext cx="1614600" cy="59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200" spc="-1" strike="noStrike">
                <a:solidFill>
                  <a:srgbClr val="000000"/>
                </a:solidFill>
                <a:latin typeface="Comic Sans MS"/>
                <a:cs typeface="Arial"/>
              </a:rPr>
              <a:t>التلوث الجوي في قط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30480" y="5950080"/>
            <a:ext cx="341964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 المصادر الرئيسية لتلوثِ الهواء في الدوحة </a:t>
            </a:r>
            <a:r>
              <a:rPr b="0" lang="ar-Q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ماذا يمكن ان نعمل بخصوصها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90880" y="2780280"/>
            <a:ext cx="10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000" spc="-1" strike="noStrike">
                <a:solidFill>
                  <a:srgbClr val="000000"/>
                </a:solidFill>
                <a:latin typeface="Arial"/>
                <a:cs typeface="Arial"/>
              </a:rPr>
              <a:t>التلو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24012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Arial"/>
                <a:cs typeface="Arial"/>
              </a:rPr>
              <a:t>الفكرة الرئيسية</a:t>
            </a:r>
            <a:r>
              <a:rPr b="0" lang="ar-Q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Q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336924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Arial"/>
                <a:cs typeface="Arial"/>
              </a:rPr>
              <a:t>اسأل الاسئلة لتضيق نطاق البح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0360" y="494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Arial"/>
                <a:cs typeface="Arial"/>
              </a:rPr>
              <a:t>فكرة اصغر</a:t>
            </a:r>
            <a:r>
              <a:rPr b="0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88000" y="58752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1800" spc="-1" strike="noStrike">
                <a:solidFill>
                  <a:srgbClr val="000000"/>
                </a:solidFill>
                <a:latin typeface="Arial"/>
                <a:cs typeface="Arial"/>
              </a:rPr>
              <a:t>سؤال البحث</a:t>
            </a:r>
            <a:r>
              <a:rPr b="0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سؤال البحث يجب أن يكون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مه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plified Arabic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plified Arab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مهم بالنسبة للباحث شخصي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مكتوبة بلغة واض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سؤال يمكن الاجابة عليه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plified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7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طريقة البحث عن اجابة عليه واضح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6146280"/>
            <a:ext cx="82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e handout: “Six Good Questions to Ask About Your Research Ques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0da9a9"/>
                </a:solidFill>
                <a:uFillTx/>
                <a:latin typeface="Bookman Old Style"/>
                <a:cs typeface="Arial"/>
              </a:rPr>
              <a:t>صياغة سؤال البحث :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03640" y="4581000"/>
            <a:ext cx="316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70000"/>
              </a:lnSpc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6600" spc="-1" strike="noStrike">
                <a:solidFill>
                  <a:srgbClr val="000000"/>
                </a:solidFill>
                <a:latin typeface="Book Antiqua"/>
              </a:rPr>
              <a:t>النشاط </a:t>
            </a:r>
            <a:r>
              <a:rPr b="1" lang="ar-QA" sz="66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6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2421000"/>
            <a:ext cx="741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8000" spc="-1" strike="noStrike">
                <a:solidFill>
                  <a:srgbClr val="000000"/>
                </a:solidFill>
                <a:latin typeface="Book Antiqua"/>
                <a:cs typeface="Arial"/>
              </a:rPr>
              <a:t>لنجرب بعض الأفكار</a:t>
            </a:r>
            <a:r>
              <a:rPr b="1" lang="ar-QA" sz="80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a9a9"/>
                </a:solidFill>
                <a:latin typeface="Bookman Old Style"/>
              </a:rPr>
              <a:t>Topics                            </a:t>
            </a:r>
            <a:r>
              <a:rPr b="1" lang="ar-QA" sz="4000" spc="-1" strike="noStrike">
                <a:solidFill>
                  <a:srgbClr val="0da9a9"/>
                </a:solidFill>
                <a:latin typeface="Bookman Old Style"/>
                <a:cs typeface="Arial"/>
              </a:rPr>
              <a:t>مواضيع</a:t>
            </a:r>
            <a:r>
              <a:rPr b="0" lang="ar-QA" sz="3600" spc="-1" strike="noStrike">
                <a:solidFill>
                  <a:srgbClr val="0da9a9"/>
                </a:solidFill>
                <a:latin typeface="Bookman Old Style"/>
                <a:ea typeface="Arial"/>
              </a:rPr>
              <a:t>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6716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uman R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althy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ffic in Qa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V Chann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61760" y="2062800"/>
            <a:ext cx="4921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قوق الإنسا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طعام الصح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ختناق المروري في ق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نوات التلفا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4247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أين 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حصل على إجابة لسؤال البحث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انترن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كتبة ( كتب ،جرائد، مجلات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صادر محلية ( متاحف ، مراكز صحي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خبر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فراد العائ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3789360"/>
            <a:ext cx="8424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كيف 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حصل على المعلومات التي احتاجها للإجابة على السؤال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4337640"/>
            <a:ext cx="770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استبيا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مقاب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مشاه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تجر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1345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هي البيانات ؟</a:t>
            </a:r>
            <a:br>
              <a:rPr sz="3600"/>
            </a:br>
            <a:br>
              <a:rPr sz="3600"/>
            </a:b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بيانات قَدْ تَشْملُ الأعدادِ،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كلمات،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صور، خصوصاً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حين تكون مقياس لمجموعة من المتغيرات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r>
              <a:rPr b="1" lang="en-US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br>
              <a:rPr sz="3600"/>
            </a:br>
            <a:br>
              <a:rPr sz="3600"/>
            </a:br>
            <a:br>
              <a:rPr sz="2800"/>
            </a:b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2421000"/>
            <a:ext cx="1440000" cy="79200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دوات جمع البيانات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287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</a:rPr>
              <a:t>مشاهد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دي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شاه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</a:rPr>
              <a:t>فح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جر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متحانات ، اختبا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خذ عي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2060640"/>
            <a:ext cx="37800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تساؤل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مقاب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استبيان ومسح</a:t>
            </a:r>
            <a:r>
              <a:rPr b="0" lang="ar-QA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640" y="1266840"/>
            <a:ext cx="9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الممكن تصنيف أدوات جمع البيانات بالشكل الت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3889800"/>
            <a:ext cx="35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قراءة وكتابة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قراءة بخصوص الموضو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تابة اليوم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تابة مفك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48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هو البحث ؟</a:t>
            </a:r>
            <a:endParaRPr b="1" i="1" lang="en-US" sz="48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09800" y="2143080"/>
            <a:ext cx="35244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28736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Century Schoolbook"/>
                <a:cs typeface="Arial"/>
              </a:rPr>
              <a:t>بعض الأدوات الشائعة في جمع البيانات: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استبيان والمس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مقابل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مشاهد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تجرب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استبيان :</a:t>
            </a:r>
            <a:endParaRPr b="1" i="1" lang="en-US" sz="3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هو أداة تتكون من مجموعة من الاسئلة لجمع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تستخدم للوصول لعدد كبير من المشارك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غالباً يستخدم الاستبيان والمسح للحصول على نوعين من المعلوم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حقائ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مواقف وآر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مقابلة :</a:t>
            </a:r>
            <a:br>
              <a:rPr sz="3600"/>
            </a:b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تستخدم المقابلة لجمع بيانات بخصوص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مواقف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آرا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قي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معتقدات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5000"/>
              </a:lnSpc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مميزات استخدام المقابل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تستخدم للحصول على معلومات اعم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5000"/>
              </a:lnSpc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عيوب استخدام المقابل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تستغرق وقتا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105000"/>
              </a:lnSpc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مشاهدة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7724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شاهدة تعني ان تستخدم حواسك في جمع معلومات حول شيءٌ 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( اشخاص ، احداث ، اماكن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شاهدة الطبيعية والمشاهدة المشارك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دي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خذ ملاحظ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قوائم الملاحظ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تجربة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ا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جارب مختلفة عن الأنواعِ الأخرى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وسائل جمع المعلومات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أن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ها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حاولةَ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تبحث في العلاقة بين السبب والأثر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 إجْراء تجربة، الباحث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يبحث عما اذا كان شيء ما سبب لشيء آخ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متغير مستقل: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Arial"/>
              </a:rPr>
              <a:t>المتغير المستقل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هو المتغير الذي يدرسه البحث أو يستخدمه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</a:rPr>
              <a:t>فهو المؤث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 متغير تابع: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Arial"/>
              </a:rPr>
              <a:t>المتغير التابع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هو الشيء الذي يحاول الباحث أن يثبت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</a:rPr>
              <a:t> أنه يتأثر بالمتغير المستقل فهو المتأث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</a:rPr>
              <a:t>أمثل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</a:rPr>
              <a:t>أي منظف يعمل على تنظيف النافذة بشكل افضل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</a:rPr>
              <a:t>أي سماد يجعل النبات ينمو بشكل أحسن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كيف تختار اداة جمع البيانات المناسبة ؟</a:t>
            </a:r>
            <a:br>
              <a:rPr sz="2800"/>
            </a:b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7777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انظر إلى سؤال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حدد أي نوع من المعلومات ترغب بالحصول علي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فكر أي اداة من ادوات جمع البيانات تعطيك هذه المعلوم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بإمكانك استخدام اكثر من أداة</a:t>
            </a:r>
            <a:r>
              <a:rPr b="1" lang="ar-QA" sz="3200" spc="-1" strike="noStrike">
                <a:solidFill>
                  <a:srgbClr val="000000"/>
                </a:solidFill>
                <a:latin typeface="Book Antiqua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280" y="1413000"/>
            <a:ext cx="7777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لماذا مدرستنا غير نظيفة ؟</a:t>
            </a:r>
            <a:br>
              <a:rPr sz="2800"/>
            </a:br>
            <a:br>
              <a:rPr sz="1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راقب ماذا يعمل الطلبة في أوقات مختلف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طلب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وزع استبيان على الطلب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عاملين في المدرسة</a:t>
            </a:r>
            <a:r>
              <a:rPr b="0" lang="ar-QA" sz="2800" spc="-1" strike="noStrike">
                <a:solidFill>
                  <a:srgbClr val="000000"/>
                </a:solidFill>
                <a:latin typeface="Century Schoolbook"/>
                <a:ea typeface="Simplified Arabic"/>
              </a:rPr>
              <a:t> </a:t>
            </a:r>
            <a:br>
              <a:rPr sz="2800"/>
            </a:b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3789360"/>
            <a:ext cx="8496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entury Schoolbook"/>
              </a:rPr>
              <a:t>هل أداء التمارين الرياضية يؤدي إلى تحسن مستوى الطلبة الدراسي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راقب الطلبة قبل وبعد تأدية التماري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مدرسي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طلب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جعل الطلبة يكتبون يوميات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حصل على درجات الطلبة في الاختبارات قبل وبعد البدء بأداء التما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00" y="836640"/>
            <a:ext cx="90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0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ي أداة جمع بيانات يجب ان تستخدم لهذين السؤالين 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626920" y="2565000"/>
            <a:ext cx="37450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0">
              <a:lnSpc>
                <a:spcPct val="90000"/>
              </a:lnSpc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نشاط </a:t>
            </a: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خذ العينة :</a:t>
            </a:r>
            <a:r>
              <a:rPr b="1" lang="en-US" sz="40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</a:rPr>
              <a:t>قبل جمع البيانات ، اختر عي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429264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ما هو المقصود بالعينة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341360"/>
            <a:ext cx="8424720" cy="1440000"/>
          </a:xfrm>
          <a:prstGeom prst="wedgeRoundRectCallout">
            <a:avLst>
              <a:gd name="adj1" fmla="val -51337"/>
              <a:gd name="adj2" fmla="val 125300"/>
              <a:gd name="adj3" fmla="val 16667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3789360"/>
            <a:ext cx="8207280" cy="1584360"/>
          </a:xfrm>
          <a:prstGeom prst="wedgeRoundRectCallout">
            <a:avLst>
              <a:gd name="adj1" fmla="val 39495"/>
              <a:gd name="adj2" fmla="val 119740"/>
              <a:gd name="adj3" fmla="val 16667"/>
            </a:avLst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ختيار عينة البحث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en-US" sz="36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2060640"/>
            <a:ext cx="7561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عينة البحث هي جزء من المجموعة التي يراد عمل بحث بخصوصها ( مجموعة البحث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ثال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ا رأي الطلبة بالزي المدرسي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عينة البحث المحتمل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طلبة الابتدائي ؟ طلبة الاعدادي ؟ طلبة الثانوي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بنين ؟ بن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أي صف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40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هو البحث ؟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064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QA" sz="2800" spc="-1" strike="noStrike">
                <a:solidFill>
                  <a:srgbClr val="000000"/>
                </a:solidFill>
                <a:latin typeface="Arial"/>
              </a:rPr>
              <a:t>البحث هو استفسار او تحقيق منظم وجاد في موضوع معين لاكتشاف او تعديل الحقائق ، النظريات ، التطبيقات</a:t>
            </a:r>
            <a:r>
              <a:rPr b="0" lang="ar-Q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QA" sz="2800" spc="-1" strike="noStrike">
                <a:solidFill>
                  <a:srgbClr val="000000"/>
                </a:solidFill>
                <a:latin typeface="Arial"/>
              </a:rPr>
              <a:t>..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dictionar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54432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3200" spc="-1" strike="noStrike">
                <a:solidFill>
                  <a:srgbClr val="00cc99"/>
                </a:solidFill>
                <a:latin typeface="Verdana"/>
                <a:cs typeface="Arial"/>
              </a:rPr>
              <a:t>إنشاء معلومات جديدة</a:t>
            </a:r>
            <a:r>
              <a:rPr b="1" lang="ar-QA" sz="3200" spc="-1" strike="noStrike">
                <a:solidFill>
                  <a:srgbClr val="00cc99"/>
                </a:solidFill>
                <a:latin typeface="Verdana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حليل البيانات</a:t>
            </a:r>
            <a:endParaRPr b="1" i="1" lang="en-US" sz="44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لخص البيانات في جد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مثل البيانات في رسم بي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فسر البيانات ، ماذا تخبرك هذه البيانا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1143000"/>
            <a:ext cx="7632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ثال !</a:t>
            </a:r>
            <a:br>
              <a:rPr sz="3200"/>
            </a:b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حليل بيانات جمعت من استبيان </a:t>
            </a:r>
            <a:br>
              <a:rPr sz="3200"/>
            </a:br>
            <a:br>
              <a:rPr sz="3200"/>
            </a:b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رأي الطلبة في الزي المدرسي ؟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3789360"/>
          <a:ext cx="8280360" cy="1800360"/>
        </p:xfrm>
        <a:graphic>
          <a:graphicData uri="http://schemas.openxmlformats.org/drawingml/2006/table">
            <a:tbl>
              <a:tblPr/>
              <a:tblGrid>
                <a:gridCol w="1295280"/>
                <a:gridCol w="1008000"/>
                <a:gridCol w="1079640"/>
                <a:gridCol w="1225440"/>
                <a:gridCol w="1150920"/>
                <a:gridCol w="2521080"/>
              </a:tblGrid>
              <a:tr h="70812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10922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ذا افعل بالبيانات؟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9640" y="2133720"/>
          <a:ext cx="7846920" cy="1512360"/>
        </p:xfrm>
        <a:graphic>
          <a:graphicData uri="http://schemas.openxmlformats.org/drawingml/2006/table">
            <a:tbl>
              <a:tblPr/>
              <a:tblGrid>
                <a:gridCol w="1227240"/>
                <a:gridCol w="955440"/>
                <a:gridCol w="1022400"/>
                <a:gridCol w="1162080"/>
                <a:gridCol w="1090800"/>
                <a:gridCol w="2388960"/>
              </a:tblGrid>
              <a:tr h="8550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6573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885000" y="1626840"/>
            <a:ext cx="16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طالب # </a:t>
            </a:r>
            <a:r>
              <a:rPr b="1" lang="ar-QA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85000" y="3931920"/>
            <a:ext cx="16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طالب # </a:t>
            </a:r>
            <a:r>
              <a:rPr b="1" lang="ar-QA" sz="20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11280" y="4437000"/>
          <a:ext cx="7848360" cy="1728720"/>
        </p:xfrm>
        <a:graphic>
          <a:graphicData uri="http://schemas.openxmlformats.org/drawingml/2006/table">
            <a:tbl>
              <a:tblPr/>
              <a:tblGrid>
                <a:gridCol w="1227600"/>
                <a:gridCol w="955440"/>
                <a:gridCol w="1023120"/>
                <a:gridCol w="1161720"/>
                <a:gridCol w="1090800"/>
                <a:gridCol w="2389680"/>
              </a:tblGrid>
              <a:tr h="7506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97812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Tahoma"/>
                <a:cs typeface="Simplified Arabic"/>
              </a:rPr>
              <a:t>لخص البيانات في جدول</a:t>
            </a:r>
            <a:r>
              <a:rPr b="1" lang="ar-QA" sz="4000" spc="-1" strike="noStrike">
                <a:solidFill>
                  <a:srgbClr val="0da9a9"/>
                </a:solidFill>
                <a:latin typeface="Tahoma"/>
                <a:ea typeface="Simplified Arabic"/>
              </a:rPr>
              <a:t> </a:t>
            </a:r>
            <a:br>
              <a:rPr sz="4000"/>
            </a:b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684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د الطلبة الذين اختاروا كل خيا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39640" y="2805120"/>
          <a:ext cx="7847280" cy="1190520"/>
        </p:xfrm>
        <a:graphic>
          <a:graphicData uri="http://schemas.openxmlformats.org/drawingml/2006/table">
            <a:tbl>
              <a:tblPr/>
              <a:tblGrid>
                <a:gridCol w="1227240"/>
                <a:gridCol w="955800"/>
                <a:gridCol w="1022400"/>
                <a:gridCol w="1161720"/>
                <a:gridCol w="1090800"/>
                <a:gridCol w="2389320"/>
              </a:tblGrid>
              <a:tr h="7506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53172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615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Tahoma"/>
                <a:cs typeface="Simplified Arabic"/>
              </a:rPr>
              <a:t>مثل البيانات في شكل رسم بياني</a:t>
            </a:r>
            <a:r>
              <a:rPr b="1" lang="ar-QA" sz="4000" spc="-1" strike="noStrike">
                <a:solidFill>
                  <a:srgbClr val="0da9a9"/>
                </a:solidFill>
                <a:latin typeface="Tahoma"/>
                <a:ea typeface="Simplified Arabic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628640"/>
          <a:ext cx="9144000" cy="494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49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Times New Roman"/>
                <a:cs typeface="Times New Roman"/>
              </a:rPr>
              <a:t>تفسير البيانات : ماذا تخبرك البيانات؟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أغلب الطلبة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يعجبهم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5%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طلبة يعجبهم لون الزي المدرس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بعض الطلبة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لا يعجبهم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0%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طلبة لا يعجبهم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كتابة البحث ( كتابة تقرير البحث )</a:t>
            </a:r>
            <a:r>
              <a:rPr b="1" lang="ar-QA" sz="4000" spc="-1" strike="noStrike" u="sng">
                <a:solidFill>
                  <a:srgbClr val="0da9a9"/>
                </a:solidFill>
                <a:uFillTx/>
                <a:latin typeface="Century Schoolbook"/>
                <a:ea typeface="Arial"/>
              </a:rPr>
              <a:t>:</a:t>
            </a:r>
            <a:r>
              <a:rPr b="1" lang="en-US" sz="4000" spc="-1" strike="noStrike" u="sng">
                <a:solidFill>
                  <a:srgbClr val="0da9a9"/>
                </a:solidFill>
                <a:uFillTx/>
                <a:latin typeface="Century Schoolbook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</a:rPr>
              <a:t>كتابة تقرير البحث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إن كتابة تقرير البحث في أساسها نوع من الإخبار بقصة ، قصة أداء البحث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لماذا وكيف قرر الباحث إجراء البحث ( المقدم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كيف قام بالبحث ( منهجية البحث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ذا حدث ( نتائج البحث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 هي النتائج التي توصل لها الباحث ( المناقشة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 هو المستفاد من هذا البحث ( الخاتم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غرض من كتابة تقرير البحث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من أين اتت الفك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عملية البح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جمع البيانات الاساسية التي استخدمت في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جمع البيانات الثانو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تحليل البيا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فائدة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مناقشة نتائج البحث وكيف يمكن تطبيق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نوع من التوثيق ل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تنظيم وتركيب تقرير البحث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: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قرير البحث يتكون من عدة أجز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Tahoma"/>
                <a:cs typeface="Simplified Arabic"/>
              </a:rPr>
              <a:t>هذه الأجزاء مصاغة بشكل متسلسل تبدأ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ea typeface="Simplified Arabic"/>
              </a:rPr>
              <a:t> بالعنوان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و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cs typeface="Simplified Arabic"/>
              </a:rPr>
              <a:t>المقدمة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وتنتهي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cs typeface="Simplified Arabic"/>
              </a:rPr>
              <a:t>بالمراجع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8560" y="549000"/>
            <a:ext cx="878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تركيب والتنظيم الأساسي لتقرير البحث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قدم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ماذا قمت بهذه الدراسة ؟  ما الذي كنت تريد التوصل إليه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 هو سؤال بحثك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طرق البحث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يف قمت بهذا  البحث ( الإجراءات )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يف جمعت البيانات ؟ من شارك في البحث ؟ أين اجريت الدراسة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نتائج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ذا وجدت ؟ لخص البيانات في جداول او رسوم بيان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ناقشة والخاتم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 معنى النتائج التي حصلت عليها؟ هل النتائج التي حصلت عليها تجيب على سؤا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بحثك؟ ما فائدة النتائج التي حصلت عليها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راجع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ائمة بالمراجع التي استشهدت بها في بحث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042920" y="1413000"/>
            <a:ext cx="7416720" cy="4248000"/>
            <a:chOff x="1042920" y="1413000"/>
            <a:chExt cx="7416720" cy="4248000"/>
          </a:xfrm>
        </p:grpSpPr>
        <p:grpSp>
          <p:nvGrpSpPr>
            <p:cNvPr id="91" name=""/>
            <p:cNvGrpSpPr/>
            <p:nvPr/>
          </p:nvGrpSpPr>
          <p:grpSpPr>
            <a:xfrm>
              <a:off x="3059280" y="1413000"/>
              <a:ext cx="3168360" cy="1944720"/>
              <a:chOff x="3059280" y="1413000"/>
              <a:chExt cx="3168360" cy="1944720"/>
            </a:xfrm>
          </p:grpSpPr>
          <p:sp>
            <p:nvSpPr>
              <p:cNvPr id="92" name=""/>
              <p:cNvSpPr/>
              <p:nvPr/>
            </p:nvSpPr>
            <p:spPr>
              <a:xfrm>
                <a:off x="3059280" y="1413000"/>
                <a:ext cx="3168360" cy="194472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240" rIns="9324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419640" y="2392920"/>
                <a:ext cx="24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1" lang="ar-QA" sz="2400" spc="-1" strike="noStrike">
                    <a:solidFill>
                      <a:srgbClr val="000000"/>
                    </a:solidFill>
                    <a:latin typeface="Verdana"/>
                    <a:cs typeface="Arial"/>
                  </a:rPr>
                  <a:t>أبحاث الطلب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042920" y="3716280"/>
              <a:ext cx="3168360" cy="1944720"/>
              <a:chOff x="1042920" y="3716280"/>
              <a:chExt cx="3168360" cy="1944720"/>
            </a:xfrm>
          </p:grpSpPr>
          <p:sp>
            <p:nvSpPr>
              <p:cNvPr id="95" name=""/>
              <p:cNvSpPr/>
              <p:nvPr/>
            </p:nvSpPr>
            <p:spPr>
              <a:xfrm>
                <a:off x="1042920" y="3716280"/>
                <a:ext cx="3168360" cy="1944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240" rIns="9324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03280" y="4208760"/>
                <a:ext cx="2447640" cy="947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1" lang="ar-QA" sz="2800" spc="-1" strike="noStrike">
                    <a:solidFill>
                      <a:srgbClr val="000000"/>
                    </a:solidFill>
                    <a:latin typeface="Verdana"/>
                    <a:cs typeface="Arial"/>
                  </a:rPr>
                  <a:t>البحث الورقي</a:t>
                </a:r>
                <a:r>
                  <a:rPr b="1" lang="ar-QA" sz="28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291280" y="3716280"/>
              <a:ext cx="3168360" cy="1944720"/>
              <a:chOff x="5291280" y="3716280"/>
              <a:chExt cx="3168360" cy="1944720"/>
            </a:xfrm>
          </p:grpSpPr>
          <p:sp>
            <p:nvSpPr>
              <p:cNvPr id="98" name=""/>
              <p:cNvSpPr/>
              <p:nvPr/>
            </p:nvSpPr>
            <p:spPr>
              <a:xfrm>
                <a:off x="5291280" y="3716280"/>
                <a:ext cx="3168360" cy="1944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240" rIns="9324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651640" y="4208760"/>
                <a:ext cx="2447640" cy="947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b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1" lang="ar-QA" sz="2800" spc="-1" strike="noStrike">
                    <a:solidFill>
                      <a:srgbClr val="000000"/>
                    </a:solidFill>
                    <a:latin typeface="Verdana"/>
                    <a:cs typeface="Arial"/>
                  </a:rPr>
                  <a:t>البحث العلمي</a:t>
                </a:r>
                <a:r>
                  <a:rPr b="1" lang="ar-QA" sz="2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 flipH="1">
              <a:off x="3492000" y="3357720"/>
              <a:ext cx="79236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19640" y="3284640"/>
              <a:ext cx="86508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نواع مختلفة من تقرير البحث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: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هناك عدة طرق لتقرير البحث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مكتو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على هيئة عرض تقديمي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power point presentation</a:t>
            </a:r>
            <a:r>
              <a:rPr b="1" lang="ar-QA" sz="23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مرئي ( على هيئة فيديو 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صوتي ( على هيئة تسجيل صوتي )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همية مشاركة نتائج الأبحاث :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جب أن يكون لدى الطلبة الفرصة لمشاركة النتائج التي توصلوا إليها من خلال بحثهم مع زملائهم الطلبة ، المدرسين ، مدير المدرسة وأولياء الأم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وصيات الطلبة يجب أن تؤخذ بجدية واحترام وتعتبر مساهمة فعالة لحل مشكلة البح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ن المهم أيضاً ان يشعر الطلبة بأنهم جزء من صناعة القرار في مدرستهم وفي مجتمعهم بقدرتهم على ايجاد حلول للمشاكل المختل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أمر لا يتعلق فقط بتعليم الطلبة مهارات البحث ، إنه تعليمهم كيف يصبحوا أعضاء فاعلين في مجتمعه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2360" cy="4951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042920" y="126648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teachers.net.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76360" y="3789360"/>
            <a:ext cx="194328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597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صادر تعليمية وورش عمل للبحث – شبكة المعلم</a:t>
            </a:r>
            <a:r>
              <a:rPr b="1" lang="ar-QA" sz="1600" spc="-1" strike="noStrike">
                <a:solidFill>
                  <a:srgbClr val="000000"/>
                </a:solidFill>
                <a:latin typeface="Times New Roman"/>
                <a:ea typeface="Simplified Arabic Fix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42920" y="7632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teachers.net.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36720" y="141300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771640" y="3860640"/>
            <a:ext cx="1584360" cy="14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rcRect l="12356" t="18512" r="13817" b="7659"/>
          <a:stretch/>
        </p:blipFill>
        <p:spPr>
          <a:xfrm>
            <a:off x="1116000" y="1844640"/>
            <a:ext cx="7201080" cy="4724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ابع أخبار البحث – موقع المجلس الأعلى للتعليم 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5445000"/>
            <a:ext cx="86508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32000" y="4922280"/>
            <a:ext cx="3168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Verdana"/>
                <a:cs typeface="Arial"/>
              </a:rPr>
              <a:t>رابط لقسم البحث</a:t>
            </a:r>
            <a:r>
              <a:rPr b="0" lang="ar-QA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72360" y="5300640"/>
            <a:ext cx="43164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27120" y="119484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ttp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://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ww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ducation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ov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ابع أخبار البحث</a:t>
            </a:r>
            <a:r>
              <a:rPr b="1" i="1" lang="ar-QA" sz="2800" spc="-1" strike="noStrike">
                <a:solidFill>
                  <a:srgbClr val="0da9a9"/>
                </a:solidFill>
                <a:latin typeface="Century Schoolbook"/>
              </a:rPr>
              <a:t> </a:t>
            </a:r>
            <a:r>
              <a:rPr b="1" i="1" lang="ar-QA" sz="2800" spc="-1" strike="noStrike">
                <a:solidFill>
                  <a:srgbClr val="0da9a9"/>
                </a:solidFill>
                <a:latin typeface="Century Schoolbook"/>
                <a:ea typeface="Arial"/>
              </a:rPr>
              <a:t>: موقع البحث العلمي ، منشور عليه ابحاث الطلبة </a:t>
            </a: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9587" t="19683" r="11411" b="7467"/>
          <a:stretch/>
        </p:blipFill>
        <p:spPr>
          <a:xfrm>
            <a:off x="684360" y="1916280"/>
            <a:ext cx="7705440" cy="4537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969560" y="1339920"/>
            <a:ext cx="48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ttp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://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ww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duc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ov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qa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search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وقع معرض ابحاث الطلبة السنوي الأول ، حيث يمكنكم الاطلاع على شروط المشاركة والتسجيل</a:t>
            </a:r>
            <a:r>
              <a:rPr b="1" i="1" lang="ar-Q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662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v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a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fair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13817" t="17512" r="11606" b="18492"/>
          <a:stretch/>
        </p:blipFill>
        <p:spPr>
          <a:xfrm>
            <a:off x="684360" y="2408400"/>
            <a:ext cx="748800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المشاركين في المؤتمر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كل المدارس المستقلة الإعدادية والثانوية  مسموح لها بالمشاركة بأربعة أبحاث مختلفة- كحد أقصى - في أي من المواد التالية : اللغة العربية ، العلوم ، الرياضيات ، الدراسات الاجتماعية  واللغة الانجليزية والدراسات الإسلامية والدراسات التكام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أبحاث يقوم بها فرق بحث ، فرق البحث يجب أن تكون مكونة من 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3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 – 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5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Traditional Arabic"/>
              </a:rPr>
              <a:t> طلاب بإشراف احد المدرس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907920"/>
            <a:ext cx="77724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عرض أبحاث الطلبة السنوي الأول 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2009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المسابق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ستكون هناك مسابقتان في المؤتمر لتحديد البحوث الأفضل . مسابقة على مستوى طلبة المرحلة الإعدادية وآخرى على مستوى طلبة المرحلة الثانوية و ذلك لتحديد البحث الأفضل في كل ماد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علو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رياضي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لغة الانجليز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لغة العر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دراسات الاجتم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دراسات الإسلا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دراسات التكام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4596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 u="sng">
                <a:solidFill>
                  <a:srgbClr val="0da9a9"/>
                </a:solidFill>
                <a:uFillTx/>
                <a:latin typeface="Century Schoolbook"/>
              </a:rPr>
              <a:t>أي أنواع البحوث ستشارك في المؤتمر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ؤتمر مفتوح لأنواع مختلفة من البحث العلمي ، الباحث قد يستخدم البحث الكمي أو الكيفي أو خليط منهما، مثلا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تجارب                                          أختراع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استبيانات                                        مشاريع هندس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دراسات حالة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صور / فيديو وثائقي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روايات التاريخية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400" spc="-1" strike="noStrike">
                <a:solidFill>
                  <a:srgbClr val="cc3300"/>
                </a:solidFill>
                <a:latin typeface="Arial"/>
                <a:cs typeface="Traditional Arabic"/>
              </a:rPr>
              <a:t>الأبحاث يجب أن تقدم معلومات جديدة ،</a:t>
            </a:r>
            <a:r>
              <a:rPr b="0" lang="ar-QA" sz="34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r>
              <a:rPr b="1" lang="ar-QA" sz="3400" spc="-1" strike="noStrike" u="sng">
                <a:solidFill>
                  <a:srgbClr val="cc3300"/>
                </a:solidFill>
                <a:uFillTx/>
                <a:latin typeface="Arial"/>
                <a:cs typeface="Traditional Arabic"/>
              </a:rPr>
              <a:t>الأبحاث التقليدية أو المكتبية لن تكون مقبولة 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هو البحث؟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315800"/>
            <a:ext cx="8064720" cy="46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البحث الورقي / بحث المكتب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التعريف :</a:t>
            </a:r>
            <a:r>
              <a:rPr b="1" lang="ar-QA" sz="2400" spc="-1" strike="noStrike">
                <a:solidFill>
                  <a:srgbClr val="000000"/>
                </a:solidFill>
                <a:latin typeface="Malgun Gothic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اعطاء موضوع معين ، بحث عن معلومات بخصوص هذا الموضوع وتلخيص هذه المعلوم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مثال : كتابة تقرير عن الاحتباس الحر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مميزاته :</a:t>
            </a:r>
            <a:r>
              <a:rPr b="0" lang="ar-QA" sz="2400" spc="-1" strike="noStrike">
                <a:solidFill>
                  <a:srgbClr val="000000"/>
                </a:solidFill>
                <a:latin typeface="Malgun Gothic"/>
                <a:ea typeface="Simplified Arabic"/>
              </a:rPr>
              <a:t> تعليم الطلبة  كيفية عمل بحث عن المعلومات ، كيفية تقييم المعلومات (      ثقافة المعلومات ) وكيفية تلخيص هذه المعلوما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عيوبه :</a:t>
            </a:r>
            <a:r>
              <a:rPr b="0" lang="ar-QA" sz="2400" spc="-1" strike="noStrike">
                <a:solidFill>
                  <a:srgbClr val="000000"/>
                </a:solidFill>
                <a:latin typeface="Malgun Gothic"/>
                <a:ea typeface="Simplified Arabic"/>
              </a:rPr>
              <a:t> الطلبة ينسخون وينقلون المعلومات بدلاً من انشائها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800" spc="-1" strike="noStrike">
                <a:solidFill>
                  <a:srgbClr val="000000"/>
                </a:solidFill>
                <a:latin typeface="Arial"/>
                <a:cs typeface="Traditional Arabic"/>
              </a:rPr>
              <a:t>كل مدرسة إعدادية أو ثانوية مستقلة  تقرر كيف تختار بحد أقصى أربعة أبحاث في أربع مواد مختلفة للمشاركة في المؤتم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8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ن الأفضل أن يتم تحديد ذلك خلال مؤتمر يقام في المدرسة ويتم تقييم الأبحاث بشكل عادل ومن ثم  يتم ترشيح الأبحاث بعد ذلك للمشاركة في المؤتمر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87080" y="1117440"/>
            <a:ext cx="104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Century Schoolbook"/>
                <a:cs typeface="Simplified Arabic"/>
              </a:rPr>
              <a:t>من يقرر أي الأبحاث تشارك في المؤتمر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208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cc3300"/>
                </a:solidFill>
                <a:uFillTx/>
                <a:latin typeface="Arial"/>
                <a:cs typeface="Traditional Arabic"/>
              </a:rPr>
              <a:t>سيكون هناك </a:t>
            </a:r>
            <a:r>
              <a:rPr b="1" lang="ar-QA" sz="4000" spc="-1" strike="noStrike" u="sng">
                <a:solidFill>
                  <a:srgbClr val="cc3300"/>
                </a:solidFill>
                <a:uFillTx/>
                <a:latin typeface="Arial"/>
                <a:ea typeface="Traditional Arabic"/>
              </a:rPr>
              <a:t>3</a:t>
            </a:r>
            <a:r>
              <a:rPr b="1" lang="ar-QA" sz="4000" spc="-1" strike="noStrike" u="sng">
                <a:solidFill>
                  <a:srgbClr val="cc3300"/>
                </a:solidFill>
                <a:uFillTx/>
                <a:latin typeface="Arial"/>
                <a:ea typeface="Traditional Arabic"/>
              </a:rPr>
              <a:t> جوائز ممنوحة في كل مادة :</a:t>
            </a:r>
            <a:r>
              <a:rPr b="0" lang="ar-Q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جائزة الذهبية</a:t>
            </a:r>
            <a:r>
              <a:rPr b="0" lang="ar-Q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للمركز الأول ، 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جائزة الفضية</a:t>
            </a:r>
            <a:r>
              <a:rPr b="0" lang="ar-Q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للمركز الثاني ، 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جائزة البرونزية</a:t>
            </a:r>
            <a:r>
              <a:rPr b="0" lang="ar-Q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للمركز الثالث وذلك للمرحلتين الاعدادية والمرحلة الثانوية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49000" y="857160"/>
            <a:ext cx="430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جوائز الممنوح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39640" y="2565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lnSpc>
                <a:spcPct val="9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4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اللغة المستخدمة 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Aft>
                <a:spcPts val="10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لغة العربية والانجليزية. فالأبحاث في المواد التالية اللغة الانجليزية ، العلوم ، الرياضيات والأبحاث التكاملية من الممكن أن تكون باللغة العربية أو الانجليزية أما الأبحاث المقدمة في المواد: الدراسات الإسلامية اللغة العربية والدراسات الاجتماعية يجب أن تكون باللغة العربية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40760" y="1340280"/>
            <a:ext cx="526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4800" spc="-1" strike="noStrike">
                <a:solidFill>
                  <a:srgbClr val="0da9a9"/>
                </a:solidFill>
                <a:latin typeface="Century Schoolbook"/>
                <a:cs typeface="Traditional Arabic"/>
              </a:rPr>
              <a:t>اللغة المستخدمة</a:t>
            </a:r>
            <a:r>
              <a:rPr b="1" lang="ar-QA" sz="4800" spc="-1" strike="noStrike">
                <a:solidFill>
                  <a:srgbClr val="0da9a9"/>
                </a:solidFill>
                <a:latin typeface="Century Schoolbook"/>
                <a:ea typeface="Traditional Arab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شكرا لحضوركم واستماعكم </a:t>
            </a:r>
            <a:br>
              <a:rPr sz="2800"/>
            </a:br>
            <a:br>
              <a:rPr sz="2800"/>
            </a:b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ذا كان لديكم أي اسئلة او رغبتم بالحصول على معلومات اضافية </a:t>
            </a:r>
            <a:br>
              <a:rPr sz="2800"/>
            </a:b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بإمكانكم التواصل مع</a:t>
            </a: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ea typeface="Arial"/>
              </a:rPr>
              <a:t>:</a:t>
            </a: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32130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orfa Al Na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.alnuimi@sec.gov.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Office Pone: 456-0l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obile:  586-99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هو البحث ؟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316880"/>
            <a:ext cx="80643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البحث العلم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التعريف : </a:t>
            </a:r>
            <a:r>
              <a:rPr b="0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إعطاء سؤال او موضوع ، بحث الموضوع بطريقة منظمة لاكتشاف معلومات جدي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مثال : </a:t>
            </a:r>
            <a:r>
              <a:rPr b="0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ما رأي الطلبة في المرحلة الثانوية عن برنامج خدمة المجتمع</a:t>
            </a:r>
            <a:r>
              <a:rPr b="1" lang="ar-QA" sz="2800" spc="-1" strike="noStrike">
                <a:solidFill>
                  <a:srgbClr val="000000"/>
                </a:solidFill>
                <a:latin typeface="Malgun Gothic"/>
                <a:ea typeface="Simplified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مميزاته : </a:t>
            </a:r>
            <a:r>
              <a:rPr b="0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تعليم الطلبة كيفية انشاء معلومات جديدة، وتشجيعهم لبحث مواضيع مهمة لديه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عيوبه : </a:t>
            </a:r>
            <a:r>
              <a:rPr b="0" lang="ar-QA" sz="2800" spc="-1" strike="noStrike">
                <a:solidFill>
                  <a:srgbClr val="000000"/>
                </a:solidFill>
                <a:latin typeface="Malgun Gothic"/>
                <a:cs typeface="Simplified Arabic"/>
              </a:rPr>
              <a:t>يحتاج إلى جهد اكبر وقد لا يجده جميع الطلبة ممتع ومه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Bookman Old Style"/>
                <a:cs typeface="Arial"/>
              </a:rPr>
              <a:t>البحث العلمي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بحث العلمي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عريف :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إعطاء سؤال او موضوع ، بحث الموضوع بطريقة منظمة لاكتشاف معلومات جدي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ثال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ا رأي الطلبة في المرحلة الثانوية عن برنامج خدمة المجتمع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ميزاته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عليم الطلبة كيفية انشاء معلومات جديدة، وتشجيعهم لبحث مواضيع مهمة لدي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عيوبه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حتاج إلى جهد اكبر وقد لا يجده جميع الطلبة ممتع وم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26920" y="164844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marL="406440" indent="-406440"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cs typeface="Arial"/>
              </a:rPr>
              <a:t>تنقيح  افكار الطلبة والوصول إلى سؤال البح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365292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تحليل البيان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59280" y="278928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جمع البيان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416304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كتابة نتائج البحث ومشاركتها مع الآخر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981000"/>
            <a:ext cx="44510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Bookman Old Style"/>
                <a:cs typeface="Arial"/>
              </a:rPr>
              <a:t>خطوات البحث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 rot="20755200">
            <a:off x="324000" y="1209240"/>
            <a:ext cx="4465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QA" sz="3200" spc="-1" strike="noStrike">
                <a:solidFill>
                  <a:srgbClr val="00cc99"/>
                </a:solidFill>
                <a:latin typeface="Comic Sans MS"/>
                <a:cs typeface="Arial"/>
              </a:rPr>
              <a:t>من مسئول عن تدريس البحث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4" name=""/>
          <p:cNvSpPr/>
          <p:nvPr/>
        </p:nvSpPr>
        <p:spPr>
          <a:xfrm rot="702600">
            <a:off x="4070520" y="1856880"/>
            <a:ext cx="5181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QA" sz="3200" spc="-1" strike="noStrike">
                <a:solidFill>
                  <a:srgbClr val="07df8d"/>
                </a:solidFill>
                <a:latin typeface="Comic Sans MS"/>
                <a:cs typeface="Arial"/>
              </a:rPr>
              <a:t>ما هي مهارات البحث التي يجب أن تدرس لكل صف ( الصف السابع- الصف الثاني عشر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0891400">
            <a:off x="395280" y="3428640"/>
            <a:ext cx="4392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QA" sz="3200" spc="-1" strike="noStrike">
                <a:solidFill>
                  <a:srgbClr val="6c554a"/>
                </a:solidFill>
                <a:latin typeface="Century Schoolbook"/>
                <a:cs typeface="Arial"/>
              </a:rPr>
              <a:t>هل يجب ان يقوم جميع الطلبة بعمل بحث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5241960"/>
            <a:ext cx="799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نموذج </a:t>
            </a: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</a:t>
            </a:r>
            <a:r>
              <a:rPr b="0" i="1" lang="ar-S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بحثِ في </a:t>
            </a: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لكافة</a:t>
            </a:r>
            <a:r>
              <a:rPr b="0" i="1" lang="ar-S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</a:t>
            </a:r>
            <a:r>
              <a:rPr b="0" i="1" lang="ar-S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درسةَ قَد</a:t>
            </a: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0" i="1" lang="ar-S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ْ</a:t>
            </a: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ي</a:t>
            </a:r>
            <a:r>
              <a:rPr b="0" i="1" lang="ar-S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ُساعدُ </a:t>
            </a: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في</a:t>
            </a:r>
            <a:r>
              <a:rPr b="0" i="1" lang="ar-S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 إجابة هذه الأسئلةِ</a:t>
            </a:r>
            <a:r>
              <a:rPr b="0" i="1" lang="ar-Q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20:40:46Z</dcterms:created>
  <dc:creator>Katie Swanson</dc:creator>
  <dc:description/>
  <dc:language>en-US</dc:language>
  <cp:lastModifiedBy>t.alnuimi</cp:lastModifiedBy>
  <cp:lastPrinted>2003-12-19T17:34:29Z</cp:lastPrinted>
  <dcterms:modified xsi:type="dcterms:W3CDTF">2009-03-15T10:14:45Z</dcterms:modified>
  <cp:revision>522</cp:revision>
  <dc:subject/>
  <dc:title>No Slide Title</dc:title>
</cp:coreProperties>
</file>